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AE7-3B82-4640-9428-F1635610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2C3-DCB7-4E06-B3A9-C5D303CA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414-18F9-451E-8132-CAE89513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D50-464E-4CE5-8DA8-81E279C4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3A7-999C-4A50-B18C-4EAD0F58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A52-C7A2-4E5A-A84D-5128966D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DD7-D4D2-4F58-8268-1455BAE2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7F6-8D80-4C73-A0BB-00D59DD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C05-8950-4786-9917-DEB614EA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FF8-00BB-4669-9589-B6B0342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0A8-C0C9-4DBF-A2DC-51275F3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E76-AE86-4A6E-A435-6E1FD47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CB23-88C8-469E-A01B-AEAFD45FEB2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2 Radostná zvesť o spas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me sa na ten deň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á zvesť o spas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už všetkým náro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amenia sa napĺňa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Kristovým návrat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verné Božie d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ojanjelskú nesú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udca je už predodver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jme Bohu sláv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me sa na ten de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zko je už doba sláv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 sa raz vypl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án túžby našej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kutočnosť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ône smrti, z hrobov pra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 hlas keď zavel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í čo v neho uveri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etnú sa s ním pri cie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pravme sa na ten de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láda hriechu už sa skon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stane mier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nám zaru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 život blaž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stane už utrp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zlo sa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 zástupmi vykúpe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e s Pánom bu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5:57:59Z</dcterms:modified>
  <cp:revision>48</cp:revision>
  <dc:subject/>
  <dc:title>Je veľký náš Pán, on slávy je Kráľ Nech do všetkých strán  spev vrúcnych znie chvál.</dc:title>
</cp:coreProperties>
</file>